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30B-838D-459B-A2B8-517157C7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495-BB96-4F09-88B3-AF9BD2D1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C40-49C0-4C16-9B2F-92980BA2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FF7-4B50-453F-8C10-46E895E5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798A-63E0-414D-AA28-2D290C6B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2182-0E4A-42D3-AF52-B8D56251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B5A0-825D-4292-B52E-B320DD20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4AB9-1F3F-4529-899B-BE883AEC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7A7D-BF6D-424E-9268-F7B6C27C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2F07-FB4F-4ABF-A5F5-F283F7F9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111A-31DC-427E-85B8-67A25482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E553-5EA8-43F9-9DFA-F2AB6439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1F38-EB41-4D79-B27F-CF3B3797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9CD8-73AF-4C04-B9AD-4A7DC139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5133-1B53-4C20-AE91-97C740A0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CA99-E51E-4332-B234-7F27B1C5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A141-CF2B-4722-A631-F2E777E0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A48-4A83-46C6-868B-C89C12F9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F71-E1D3-4C60-B097-05A97499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8ED-5500-4050-A7F6-0919C19B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1F5-70C0-4837-9493-E1116DE3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A8D-651D-44E7-8B8A-C1969D4F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60A-3F6A-4DAE-836F-854B364A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796-D67C-4DF2-BBC4-94C02B42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EA60-86A8-494B-B260-5C54E92EF436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1AEE-E82F-49B5-BC70-939F5D5B216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9A24-D2AC-4AA3-B355-FBA86CD6F350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2A9B-2CC7-4554-8511-38756E1CF3D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1F78-E3EA-4B94-BC76-59445EF508D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Лекция  № 4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ы и характеристика отказов технических систе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E5DF-4B4C-4719-9AC5-9E808C3BB4A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По характеру возникновения различают отказы внезапные, постепенные и перемежающиеся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1356840"/>
            <a:ext cx="8786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незапный отка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den fail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характеризуется резким из­менением одного или нескольких заданных параметров объекта. Примером внезапного отказа является нарушение работоспособности системы зажигания или системы питания двиг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степенный отка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l fail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характеризуется постепен­ным изменением одного или нескольких заданных параметров объекта. Характерным примером постепенного отказа является нарушение работоспособности тормозов в результате износа фрикцион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еремежающийся отка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ittent fail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— многократно возникающий сбой одного и того же характера. Примером пере­межающегося отказа может служить ухудшение мощностных и топливно-экономических показателей двигателя из-за появления нагара в головке блока цилиндров. Этот отказ часто самоустраняется при длительной работе машины в тяжелом нагрузочном режиме. Другим характерным примером перемежающегося отказа является временное нарушение работоспособности двигателя из-за случайного попадания воды в бенз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09F0-FA13-4438-A118-0ABA8112DE0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7120" y="856800"/>
            <a:ext cx="84297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5490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возможности дальнейшего использования объекта отказы могут быть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ол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части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5490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Полный отказ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ключает возможность работы объекта до его устран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5490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возникновении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частичного отказа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ъект может частично использовать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5490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BA3D-E135-4658-9BAC-0774CB77AD4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14200" y="428400"/>
            <a:ext cx="8786880" cy="57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признаку легкости обнаружения отказы бывают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очевидные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явные) и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скрыт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неявные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времени возникновения отказы подразделяются на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приработочные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озникающие в начальный период эксплуатации,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отказы при нормальной эксплуатации, износовые отказы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ызванные необратимыми процессами износа деталей, старения материалов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B180-EE3A-4D23-A550-A7687DDD89D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28760" y="0"/>
          <a:ext cx="8358120" cy="719280"/>
        </p:xfrm>
        <a:graphic>
          <a:graphicData uri="http://schemas.openxmlformats.org/drawingml/2006/table">
            <a:tbl>
              <a:tblPr/>
              <a:tblGrid>
                <a:gridCol w="8358120"/>
              </a:tblGrid>
              <a:tr h="719280">
                <a:tc>
                  <a:txBody>
                    <a:bodyPr lIns="0" rIns="0" tIns="131040" bIns="1310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еречень характерных отказов самолета и его элем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574560" y="765000"/>
            <a:ext cx="85694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) трещины, деформации и разрушения, вызванные действием многократно повторяющихся в эксплуатации нагрузок и случаями чрезмерного нагружения летательного аппарата в эксплуатации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) коррозия н разрушения лакокрасочных и других видов защитных покрытий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) износ и люфты подвижных соединений, ослабление болтовых соединений, заклепочных швов, потертости элементов конструкции и другие виды механического износа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) старение деталей, изготовленных из органических материалов (стекла, пластмассы и др)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5) механические повреждения, вызванные небрежностью при техническом и коммерческом обслуживаниях, ремонте и другими случая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EADE-BD9A-4C92-B2B0-3B66F98CFE0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395280" y="1628640"/>
            <a:ext cx="811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овышения и поддержания надёжности подразделяетс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нструктор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ехнологиче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ксплуатацио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395280" y="549360"/>
            <a:ext cx="81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 МЕТОДЫ ПОВЫШЕНИЯ И ПОДДЕРЖАНИЯ НАДЁЖНОСТИ МАШ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945D-10D9-4B5A-9885-C236CA77208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539640" y="4046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сить надёжность машины при её конструировании возможно либо путём создания новой конструкции машины, либо путём усовершенствования действу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514440" y="155736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оздание новой конструкции машин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о один из основных путей повышения её надежности. Путём создания новой машины идут многие конструкторы. Если не удаётся сконструировать принципиально новую машину, то идут путём создания принципиально новых агрегатов, узлов и деталей для неё. Важным при создании новой машины является её повышенная надёжность по сравнению с предыдущей мод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611280" y="3308400"/>
            <a:ext cx="832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усовершенствованием действующей модел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кторы работают практически постоянно. По мере получения данных о надёжности машины конструкторы определяют «узкие» места в ней, т. е. определяют узлы, агрегаты, детали с наименьшей надёжностью; анализируют отказы этих элементов и разрабатывают конструктивные мероприятия по повышению их надёж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5DF8-0190-4BA6-BC7B-0EF3B9FBFB4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539640" y="40464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общими и часто применяемыми методами повышения надёжности элементов машины на стадии проектирования или усовершенствования являются методы резерв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 следующие методы резерв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прочност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структур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539640" y="256536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очностное резервиров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ется в основном для механических систем, в том числе и для самолета. Для повышения надежности машин в этом случае используют принцип избыточности. Суть его состоит в том, что запас надежности повышается за счет удаления области состояний изделия в эксплуатации от предельных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539640" y="429264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труктурное резервиров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ючатся в создании в конструкции машин дублирующих элементов. При выходе из строя одного из элементов машины дублёр выполняет его функции, и машина остаётся работоспособной, т.е. не прекращает свое работы. Это позволяет уменьшить вероятность отказа машины сразу на несколько поряд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183B-9D45-4196-B445-60EBF372B15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14360" y="765000"/>
            <a:ext cx="8496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хнической литературе структурное резервирование часто называют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резервированием методом замещ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езервирование замещение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ервирование замещением подразделяю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резервирование с не нагруженным резерв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резервирование с нагруженным резер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ашиностроении различают ещё и особые виды резервирования,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частичное резерв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 резервные агрегаты используются как рабочие в часы «пи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словное резерв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ниженными показателями, когда резерв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хранение работоспособности, но с пониженными показа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облегченное резерв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 резервные элементы до момента включения находятся в облегченном режиме работы и вероятность их отказа в этот период м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ED88-87DA-4334-AF30-5B7B4E468A1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ход объекта в различные состоя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ы повышения и поддержания надёжности маш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5186-721F-4602-9973-5C8C10EF739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6760" y="213840"/>
            <a:ext cx="857268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ход изделия из работоспособного состояния в неработоспособное осуществляется при наступлении такого события, как отк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вреждени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a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событие, заключающееся в нарушении исправного состояния объекта при сохранении его работо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к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событие, заключающееся в нарушении работоспособного состояния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й отказ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criter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признак или нарушения работоспособного состояния объекта, установленные в нормативно-технической и(или) конструкторской докумен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A5BD-72F6-414E-B903-1DA6BB8E46B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21384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Восстановлени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toration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overy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— это процесс перевода объекта в работоспособное состояние из неработоспособного состоян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Авария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— событие, заключающееся в переходе объекта с одного уровня работоспособности или относительного уровня функционирования на другой, существенно более низкий, с крупным нарушением режима работы объекта. Авария может привести к частичному или полному разрушению объекта, созданию опасных условий для человека и окружающей сре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98C1-6196-42D0-8B12-C69DCE4ABE8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1680" y="357120"/>
          <a:ext cx="8072280" cy="549360"/>
        </p:xfrm>
        <a:graphic>
          <a:graphicData uri="http://schemas.openxmlformats.org/drawingml/2006/table">
            <a:tbl>
              <a:tblPr/>
              <a:tblGrid>
                <a:gridCol w="807228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лассификация отказ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570880" cy="4643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D0B1-C4C6-42F2-8008-D3B7433F54E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Явный отказ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failu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отказ, обнаруживаемый визуально или штатными методами и средствами контроля и диагностирования при подготовке объекта к применению или в процессе его применения по назна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крытый отказ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t failu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отказ, не обнаруживаемый визуально или штатными методами и средствами контроля и диагностирования, но выявляемый при проведении технического обслуживания или специальными методами диагно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DECA-7D8F-4A9F-AAA5-4B044476E8C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7120" y="21384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Сбой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ruption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— самоустраняющийся отказ или однократный отказ, устраняемый незначительным вмешательством оператор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Ресурсный отказ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rginal failure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— отказ, в результате которого объект достигает предельного состоян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Независимый отказ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ary failure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— отказ, не обусловленный другими отказам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Зависимый отказ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ary failure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— отказ, обусловленный другими отказам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E311-59BA-488F-8BE9-2C10DAEE6FF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2560" y="571320"/>
            <a:ext cx="86583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нструктивные отказы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возникшие в результате нарушения установленных правил констру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оизводственные отказы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ing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причиной возникновения которых является нарушение установленного процесса изготовления или ремонта издел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луатационные отказы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se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handling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причиной возникновения которых является нарушение установленных правил или условий эксплуатации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еградационный отказ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ing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— отказ, обусловленный естественными процессами старения, изнашивания, коррозии и усталости при соблюдении всех установ­ленных правил и (или) норм проектирования, изготовления и эксплуа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428760" y="21420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ависимости от причин возникновения отказа разли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83F5-3295-4AA5-8D25-2DB3700A021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По своей природе отказы могут быть: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случайные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условленные непредусмотренными перегрузками, дефектами материала, ошибками персонала, сбоями системы управления и т.п.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систематические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условленные закономерными явлениями, вызывающими постепенное накопление повреждений: усталость, износ, старение, коррозия материалов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Решенкин А.С.</cp:lastModifiedBy>
  <dcterms:modified xsi:type="dcterms:W3CDTF">2019-10-24T05:35:22Z</dcterms:modified>
  <cp:revision>18</cp:revision>
  <dc:subject/>
  <dc:title>Лекция  № 11 </dc:title>
</cp:coreProperties>
</file>